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7D2C-9DE5-4FB3-9723-03CAA7AA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FEAA-EFEC-481B-8775-3ACAB54B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2F44-729A-4BC1-85EF-E53F1743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97C6-E18B-4587-A38E-36F9628D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61B7-3147-4AD8-807C-526973D0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485D-E5B4-4DB4-84C4-5F88CAF1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2731-D04C-4B8D-870C-08249F41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F889-3F92-4FFB-AE7A-2BE09BB7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524C-404B-441F-9C73-1F7A3BD7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C63E-1F53-410B-99B4-C347587E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2404-CEB4-47A0-9431-49C0D86E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109D-ABEF-417D-9B39-DFBBFAE9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BDDC-419E-4C1F-A126-24DFB4A0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F804-ACC8-4070-A7FD-2B190802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250A-8B3E-45CA-A1E0-E8193683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9EFE-1C18-40CA-A3B0-FE123FDB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3615-D244-4C82-8D1A-20ABB85A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5175C-2603-45D0-B488-E9AE019C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E0600-550C-44FA-BC2A-444A1A14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1516F-DF98-4D4F-B21D-FFF4D7C5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579B7-0C3A-49B2-9695-B9BFD83B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51847-1991-462F-9EDF-846F29AC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CDE5-5535-4EE8-94B7-B43EC079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80101-A941-460D-9141-CC5AE5CC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D8B9C-247E-487A-B506-58B1E770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9C3A5-75D0-4BD6-B434-BDDB7660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F77F7-06F2-4223-94A4-A4C94771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FDC92-BE4F-49F6-9800-76D0BF4A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E7740-6C16-43D1-84DD-AAE0FB96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82745-DE54-40EA-AC0A-213FDD94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E7AD-7772-40E9-8D6D-68111FEC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C9D-CB69-4684-8B1C-BA629A66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0A89-98AE-4092-9F93-F29D1105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D520-2E8D-4315-B418-C32F2DF4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FE60-B8F9-40D3-8113-925B6B06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090D-2376-4EB7-9BCC-3778B1C9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6BB9-BBAC-4437-9F0F-01984A7D0F26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9" descr="roodschild_los.jpg"/>
          <p:cNvPicPr/>
          <p:nvPr/>
        </p:nvPicPr>
        <p:blipFill>
          <a:blip r:embed="rId2"/>
          <a:srcRect l="0" t="26622" r="0" b="38371"/>
          <a:stretch/>
        </p:blipFill>
        <p:spPr>
          <a:xfrm rot="20985600">
            <a:off x="-1531440" y="3703680"/>
            <a:ext cx="11396520" cy="4967280"/>
          </a:xfrm>
          <a:prstGeom prst="rect">
            <a:avLst/>
          </a:prstGeom>
          <a:ln w="0">
            <a:noFill/>
          </a:ln>
        </p:spPr>
      </p:pic>
      <p:pic>
        <p:nvPicPr>
          <p:cNvPr id="42" name="Afbeelding 10" descr="hartenbeeldje_los (Large).png"/>
          <p:cNvPicPr/>
          <p:nvPr/>
        </p:nvPicPr>
        <p:blipFill>
          <a:blip r:embed="rId3"/>
          <a:stretch/>
        </p:blipFill>
        <p:spPr>
          <a:xfrm>
            <a:off x="7358040" y="4714920"/>
            <a:ext cx="1434960" cy="1785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43" name="Afbeelding 9" descr="HGJB-logo_support_wit.png"/>
          <p:cNvPicPr/>
          <p:nvPr/>
        </p:nvPicPr>
        <p:blipFill>
          <a:blip r:embed="rId4"/>
          <a:stretch/>
        </p:blipFill>
        <p:spPr>
          <a:xfrm>
            <a:off x="214200" y="142920"/>
            <a:ext cx="830520" cy="619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1F26-EC11-4E2B-A033-79337607E52E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Afbeelding 9" descr="roodschild_los.jpg"/>
          <p:cNvPicPr/>
          <p:nvPr/>
        </p:nvPicPr>
        <p:blipFill>
          <a:blip r:embed="rId2"/>
          <a:srcRect l="0" t="26622" r="0" b="38371"/>
          <a:stretch/>
        </p:blipFill>
        <p:spPr>
          <a:xfrm rot="20985600">
            <a:off x="-804960" y="3580920"/>
            <a:ext cx="10985760" cy="478656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10" descr="hartenbeeldje_los (Large).png"/>
          <p:cNvPicPr/>
          <p:nvPr/>
        </p:nvPicPr>
        <p:blipFill>
          <a:blip r:embed="rId3"/>
          <a:stretch/>
        </p:blipFill>
        <p:spPr>
          <a:xfrm>
            <a:off x="7000920" y="4357800"/>
            <a:ext cx="1754280" cy="2182680"/>
          </a:xfrm>
          <a:prstGeom prst="rect">
            <a:avLst/>
          </a:prstGeom>
          <a:ln w="0">
            <a:noFill/>
          </a:ln>
        </p:spPr>
      </p:pic>
      <p:sp>
        <p:nvSpPr>
          <p:cNvPr id="87" name="Tekstvak 11"/>
          <p:cNvSpPr/>
          <p:nvPr/>
        </p:nvSpPr>
        <p:spPr>
          <a:xfrm>
            <a:off x="571680" y="595800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tledDemi"/>
              </a:rPr>
              <a:t>Avond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6718-DD5F-499F-9F11-99CA20A20929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1424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Afbeelding 9" descr="roodschild_los.jpg"/>
          <p:cNvPicPr/>
          <p:nvPr/>
        </p:nvPicPr>
        <p:blipFill>
          <a:blip r:embed="rId1"/>
          <a:srcRect l="0" t="26622" r="0" b="38371"/>
          <a:stretch/>
        </p:blipFill>
        <p:spPr>
          <a:xfrm rot="20985600">
            <a:off x="-1436760" y="388800"/>
            <a:ext cx="17388000" cy="7575840"/>
          </a:xfrm>
          <a:prstGeom prst="rect">
            <a:avLst/>
          </a:prstGeom>
          <a:ln w="0">
            <a:noFill/>
          </a:ln>
        </p:spPr>
      </p:pic>
      <p:pic>
        <p:nvPicPr>
          <p:cNvPr id="131" name="Afbeelding 10" descr="hartenbeeldje_los (Large).png"/>
          <p:cNvPicPr/>
          <p:nvPr/>
        </p:nvPicPr>
        <p:blipFill>
          <a:blip r:embed="rId2"/>
          <a:stretch/>
        </p:blipFill>
        <p:spPr>
          <a:xfrm>
            <a:off x="857160" y="-1285920"/>
            <a:ext cx="6143760" cy="7647120"/>
          </a:xfrm>
          <a:prstGeom prst="rect">
            <a:avLst/>
          </a:prstGeom>
          <a:ln w="0">
            <a:noFill/>
          </a:ln>
        </p:spPr>
      </p:pic>
      <p:sp>
        <p:nvSpPr>
          <p:cNvPr id="132" name="Tekstvak 8"/>
          <p:cNvSpPr/>
          <p:nvPr/>
        </p:nvSpPr>
        <p:spPr>
          <a:xfrm>
            <a:off x="1071720" y="5500800"/>
            <a:ext cx="74293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Afbeelding 5" descr="Logo HGJB transparant.png"/>
          <p:cNvPicPr/>
          <p:nvPr/>
        </p:nvPicPr>
        <p:blipFill>
          <a:blip r:embed="rId3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Communicatie in je rel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4312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2 – maak open 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3 – jullie nive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Afbeelding 3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Luis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tief luiste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Afbeelding 3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Valku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voelens neg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gatelli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ust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iltes opvu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4778280" y="1052640"/>
            <a:ext cx="375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sch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br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igen verhaal ver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l oplossingen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Afbeelding 4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Fil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7859880" cy="25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oor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inneringen/Ervaringe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moed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wach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4778280" y="907920"/>
            <a:ext cx="375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voe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tuig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Afbeelding 4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4760" y="44280"/>
            <a:ext cx="821844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Valkuil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539640" y="154764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Afbeelding 3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4760" y="44280"/>
            <a:ext cx="821844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Afrond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Afbeelding 3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428400" y="1557000"/>
            <a:ext cx="7543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uisopd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ntmo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ntitledDemi"/>
            </a:endParaRPr>
          </a:p>
        </p:txBody>
      </p:sp>
      <p:pic>
        <p:nvPicPr>
          <p:cNvPr id="211" name="Afbeelding 9" descr="roodschild_los.jpg"/>
          <p:cNvPicPr/>
          <p:nvPr/>
        </p:nvPicPr>
        <p:blipFill>
          <a:blip r:embed="rId1"/>
          <a:srcRect l="0" t="26622" r="0" b="38371"/>
          <a:stretch/>
        </p:blipFill>
        <p:spPr>
          <a:xfrm rot="20985600">
            <a:off x="-1436760" y="388800"/>
            <a:ext cx="17388000" cy="7575840"/>
          </a:xfrm>
          <a:prstGeom prst="rect">
            <a:avLst/>
          </a:prstGeom>
          <a:ln w="0">
            <a:noFill/>
          </a:ln>
        </p:spPr>
      </p:pic>
      <p:pic>
        <p:nvPicPr>
          <p:cNvPr id="212" name="Afbeelding 10" descr="hartenbeeldje_los (Large).png"/>
          <p:cNvPicPr/>
          <p:nvPr/>
        </p:nvPicPr>
        <p:blipFill>
          <a:blip r:embed="rId2"/>
          <a:stretch/>
        </p:blipFill>
        <p:spPr>
          <a:xfrm>
            <a:off x="857160" y="-1285920"/>
            <a:ext cx="6143760" cy="7647120"/>
          </a:xfrm>
          <a:prstGeom prst="rect">
            <a:avLst/>
          </a:prstGeom>
          <a:ln w="0">
            <a:noFill/>
          </a:ln>
        </p:spPr>
      </p:pic>
      <p:sp>
        <p:nvSpPr>
          <p:cNvPr id="213" name="Tekstvak 4"/>
          <p:cNvSpPr/>
          <p:nvPr/>
        </p:nvSpPr>
        <p:spPr>
          <a:xfrm>
            <a:off x="1071720" y="5500800"/>
            <a:ext cx="74293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Afbeelding 5" descr="Logo HGJB transparant.png"/>
          <p:cNvPicPr/>
          <p:nvPr/>
        </p:nvPicPr>
        <p:blipFill>
          <a:blip r:embed="rId3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4296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262626"/>
                </a:solidFill>
                <a:latin typeface="AntitledDemi"/>
              </a:rPr>
              <a:t>Hart voor je huwelij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143080" y="2857680"/>
            <a:ext cx="52149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5e2206"/>
                </a:solidFill>
                <a:latin typeface="AntitledDemi"/>
              </a:rPr>
              <a:t>Avond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5e2206"/>
                </a:solidFill>
                <a:latin typeface="AntitledDemi"/>
              </a:rPr>
              <a:t>Communicatie in je rel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Afbeelding 6" descr="roodschild_los.jpg"/>
          <p:cNvPicPr/>
          <p:nvPr/>
        </p:nvPicPr>
        <p:blipFill>
          <a:blip r:embed="rId1"/>
          <a:srcRect l="0" t="26622" r="0" b="38371"/>
          <a:stretch/>
        </p:blipFill>
        <p:spPr>
          <a:xfrm rot="8788800">
            <a:off x="-1126800" y="-271440"/>
            <a:ext cx="3121200" cy="1771560"/>
          </a:xfrm>
          <a:prstGeom prst="rect">
            <a:avLst/>
          </a:prstGeom>
          <a:ln w="0">
            <a:noFill/>
          </a:ln>
        </p:spPr>
      </p:pic>
      <p:pic>
        <p:nvPicPr>
          <p:cNvPr id="137" name="Afbeelding 5" descr="Logo HGJB transparant.png"/>
          <p:cNvPicPr/>
          <p:nvPr/>
        </p:nvPicPr>
        <p:blipFill>
          <a:blip r:embed="rId2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81388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62626"/>
                </a:solidFill>
                <a:latin typeface="AntitledDemi"/>
              </a:rPr>
              <a:t>Communicatie in je rel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684360" y="1430280"/>
            <a:ext cx="7145280" cy="34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efde als grondt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catie in je re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uis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lkuilen en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Afbeelding 3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792504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Liefde als grondt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Korinthe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0" y="28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MPj04221490000[1]"/>
          <p:cNvPicPr/>
          <p:nvPr/>
        </p:nvPicPr>
        <p:blipFill>
          <a:blip r:embed="rId1"/>
          <a:stretch/>
        </p:blipFill>
        <p:spPr>
          <a:xfrm>
            <a:off x="5514840" y="2116080"/>
            <a:ext cx="2108160" cy="1400400"/>
          </a:xfrm>
          <a:prstGeom prst="rect">
            <a:avLst/>
          </a:prstGeom>
          <a:ln w="0">
            <a:noFill/>
          </a:ln>
        </p:spPr>
      </p:pic>
      <p:pic>
        <p:nvPicPr>
          <p:cNvPr id="145" name="Afbeelding 5" descr="Logo HGJB transparant.png"/>
          <p:cNvPicPr/>
          <p:nvPr/>
        </p:nvPicPr>
        <p:blipFill>
          <a:blip r:embed="rId2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Communicatie in je rel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4312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en voorbeel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Afbeelding 3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Communicatie in je rel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38400"/>
            <a:ext cx="8229600" cy="26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gaat communicat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kan b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chter bij elk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Afbeelding 4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3"/>
          <p:cNvSpPr/>
          <p:nvPr/>
        </p:nvSpPr>
        <p:spPr>
          <a:xfrm rot="10800000">
            <a:off x="533160" y="5257800"/>
            <a:ext cx="4267080" cy="990720"/>
          </a:xfrm>
          <a:custGeom>
            <a:avLst/>
            <a:gdLst>
              <a:gd name="textAreaLeft" fmla="*/ 559440 w 4267080"/>
              <a:gd name="textAreaRight" fmla="*/ 3707640 w 4267080"/>
              <a:gd name="textAreaTop" fmla="*/ 129960 h 990720"/>
              <a:gd name="textAreaBottom" fmla="*/ 8607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5" y="21600"/>
                </a:lnTo>
                <a:lnTo>
                  <a:pt x="1953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952880" y="5334120"/>
            <a:ext cx="4419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ETJ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N KALFJ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267080" y="4267080"/>
            <a:ext cx="556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EITEN EN GEBEURTENI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 rot="10800000">
            <a:off x="914040" y="4267080"/>
            <a:ext cx="3505320" cy="1067040"/>
          </a:xfrm>
          <a:custGeom>
            <a:avLst/>
            <a:gdLst>
              <a:gd name="textAreaLeft" fmla="*/ 501480 w 3505320"/>
              <a:gd name="textAreaRight" fmla="*/ 3003840 w 3505320"/>
              <a:gd name="textAreaTop" fmla="*/ 152640 h 1067040"/>
              <a:gd name="textAreaBottom" fmla="*/ 914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580" y="21600"/>
                </a:lnTo>
                <a:lnTo>
                  <a:pt x="1902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/>
          <p:cNvSpPr/>
          <p:nvPr/>
        </p:nvSpPr>
        <p:spPr>
          <a:xfrm rot="10800000">
            <a:off x="1295280" y="3276360"/>
            <a:ext cx="2743200" cy="1066680"/>
          </a:xfrm>
          <a:custGeom>
            <a:avLst/>
            <a:gdLst>
              <a:gd name="textAreaLeft" fmla="*/ 449280 w 2743200"/>
              <a:gd name="textAreaRight" fmla="*/ 2293920 w 2743200"/>
              <a:gd name="textAreaTop" fmla="*/ 174600 h 1066680"/>
              <a:gd name="textAreaBottom" fmla="*/ 8920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78" y="21600"/>
                </a:lnTo>
                <a:lnTo>
                  <a:pt x="1812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809880" y="3429000"/>
            <a:ext cx="541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INGEN EN IDEEË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 rot="10800000">
            <a:off x="1752480" y="2286000"/>
            <a:ext cx="1828800" cy="990720"/>
          </a:xfrm>
          <a:custGeom>
            <a:avLst/>
            <a:gdLst>
              <a:gd name="textAreaLeft" fmla="*/ 375120 w 1828800"/>
              <a:gd name="textAreaRight" fmla="*/ 1453680 w 1828800"/>
              <a:gd name="textAreaTop" fmla="*/ 203040 h 990720"/>
              <a:gd name="textAreaBottom" fmla="*/ 7876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63" y="21600"/>
                </a:lnTo>
                <a:lnTo>
                  <a:pt x="1633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3352680" y="2438280"/>
            <a:ext cx="541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MOTIES DE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2971800" y="1447920"/>
            <a:ext cx="642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MOETING / INTIMIT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2"/>
          <p:cNvSpPr/>
          <p:nvPr/>
        </p:nvSpPr>
        <p:spPr>
          <a:xfrm rot="10800000">
            <a:off x="2209680" y="1218960"/>
            <a:ext cx="914400" cy="1066680"/>
          </a:xfrm>
          <a:custGeom>
            <a:avLst/>
            <a:gdLst>
              <a:gd name="textAreaLeft" fmla="*/ 304920 w 914400"/>
              <a:gd name="textAreaRight" fmla="*/ 609840 w 914400"/>
              <a:gd name="textAreaTop" fmla="*/ 355680 h 1066680"/>
              <a:gd name="textAreaBottom" fmla="*/ 7113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45720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Niveaus van communic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Afbeelding 12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>
            <a:off x="4038480" y="3962520"/>
            <a:ext cx="4496040" cy="1523880"/>
          </a:xfrm>
          <a:prstGeom prst="rightArrow">
            <a:avLst>
              <a:gd name="adj1" fmla="val 50000"/>
              <a:gd name="adj2" fmla="val 7376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 rot="10800000">
            <a:off x="533160" y="5257800"/>
            <a:ext cx="4267080" cy="990720"/>
          </a:xfrm>
          <a:custGeom>
            <a:avLst/>
            <a:gdLst>
              <a:gd name="textAreaLeft" fmla="*/ 559440 w 4267080"/>
              <a:gd name="textAreaRight" fmla="*/ 3707640 w 4267080"/>
              <a:gd name="textAreaTop" fmla="*/ 129960 h 990720"/>
              <a:gd name="textAreaBottom" fmla="*/ 8607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5" y="21600"/>
                </a:lnTo>
                <a:lnTo>
                  <a:pt x="1953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952880" y="5334120"/>
            <a:ext cx="4419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ETJ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N KALFJ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6"/>
          <p:cNvSpPr/>
          <p:nvPr/>
        </p:nvSpPr>
        <p:spPr>
          <a:xfrm rot="10800000">
            <a:off x="2057040" y="4343400"/>
            <a:ext cx="3505320" cy="914400"/>
          </a:xfrm>
          <a:custGeom>
            <a:avLst/>
            <a:gdLst>
              <a:gd name="textAreaLeft" fmla="*/ 501480 w 3505320"/>
              <a:gd name="textAreaRight" fmla="*/ 3003840 w 3505320"/>
              <a:gd name="textAreaTop" fmla="*/ 130680 h 914400"/>
              <a:gd name="textAreaBottom" fmla="*/ 7837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580" y="21600"/>
                </a:lnTo>
                <a:lnTo>
                  <a:pt x="1902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4267080" y="4441680"/>
            <a:ext cx="556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EITEN EN GEBEURTENI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8"/>
          <p:cNvSpPr/>
          <p:nvPr/>
        </p:nvSpPr>
        <p:spPr>
          <a:xfrm rot="10800000">
            <a:off x="1295280" y="3276360"/>
            <a:ext cx="2743200" cy="1066680"/>
          </a:xfrm>
          <a:custGeom>
            <a:avLst/>
            <a:gdLst>
              <a:gd name="textAreaLeft" fmla="*/ 449280 w 2743200"/>
              <a:gd name="textAreaRight" fmla="*/ 2293920 w 2743200"/>
              <a:gd name="textAreaTop" fmla="*/ 174600 h 1066680"/>
              <a:gd name="textAreaBottom" fmla="*/ 8920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78" y="21600"/>
                </a:lnTo>
                <a:lnTo>
                  <a:pt x="1812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3809880" y="3429000"/>
            <a:ext cx="541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INGEN EN IDEEË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/>
          <p:cNvSpPr/>
          <p:nvPr/>
        </p:nvSpPr>
        <p:spPr>
          <a:xfrm rot="10800000">
            <a:off x="1752480" y="2286000"/>
            <a:ext cx="1828800" cy="990720"/>
          </a:xfrm>
          <a:custGeom>
            <a:avLst/>
            <a:gdLst>
              <a:gd name="textAreaLeft" fmla="*/ 375120 w 1828800"/>
              <a:gd name="textAreaRight" fmla="*/ 1453680 w 1828800"/>
              <a:gd name="textAreaTop" fmla="*/ 203040 h 990720"/>
              <a:gd name="textAreaBottom" fmla="*/ 7876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63" y="21600"/>
                </a:lnTo>
                <a:lnTo>
                  <a:pt x="1633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3352680" y="2438280"/>
            <a:ext cx="541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MOTIES DE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2971800" y="1447920"/>
            <a:ext cx="642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MOETING / INTIMIT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3"/>
          <p:cNvSpPr/>
          <p:nvPr/>
        </p:nvSpPr>
        <p:spPr>
          <a:xfrm rot="10800000">
            <a:off x="2209680" y="1218960"/>
            <a:ext cx="914400" cy="1066680"/>
          </a:xfrm>
          <a:custGeom>
            <a:avLst/>
            <a:gdLst>
              <a:gd name="textAreaLeft" fmla="*/ 304920 w 914400"/>
              <a:gd name="textAreaRight" fmla="*/ 609840 w 914400"/>
              <a:gd name="textAreaTop" fmla="*/ 355680 h 1066680"/>
              <a:gd name="textAreaBottom" fmla="*/ 7113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6"/>
          <p:cNvSpPr/>
          <p:nvPr/>
        </p:nvSpPr>
        <p:spPr>
          <a:xfrm>
            <a:off x="45720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Niveaus van communic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Afbeelding 13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Afbeelding 13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  <p:pic>
        <p:nvPicPr>
          <p:cNvPr id="178" name="Afbeelding 9" descr="roodschild_los.jpg"/>
          <p:cNvPicPr/>
          <p:nvPr/>
        </p:nvPicPr>
        <p:blipFill>
          <a:blip r:embed="rId2"/>
          <a:srcRect l="15423" t="40168" r="71628" b="56865"/>
          <a:stretch/>
        </p:blipFill>
        <p:spPr>
          <a:xfrm rot="20985600">
            <a:off x="402840" y="5973840"/>
            <a:ext cx="1363680" cy="64296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2"/>
          <p:cNvSpPr/>
          <p:nvPr/>
        </p:nvSpPr>
        <p:spPr>
          <a:xfrm rot="12935400">
            <a:off x="5172120" y="4581000"/>
            <a:ext cx="3733920" cy="1143000"/>
          </a:xfrm>
          <a:custGeom>
            <a:avLst/>
            <a:gdLst>
              <a:gd name="textAreaLeft" fmla="*/ 533880 w 3733920"/>
              <a:gd name="textAreaRight" fmla="*/ 3200040 w 3733920"/>
              <a:gd name="textAreaTop" fmla="*/ 163440 h 1143000"/>
              <a:gd name="textAreaBottom" fmla="*/ 9795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580" y="21600"/>
                </a:lnTo>
                <a:lnTo>
                  <a:pt x="1902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"/>
          <p:cNvSpPr/>
          <p:nvPr/>
        </p:nvSpPr>
        <p:spPr>
          <a:xfrm rot="6330000">
            <a:off x="75600" y="5584680"/>
            <a:ext cx="990720" cy="1143000"/>
          </a:xfrm>
          <a:custGeom>
            <a:avLst/>
            <a:gdLst>
              <a:gd name="textAreaLeft" fmla="*/ 330120 w 990720"/>
              <a:gd name="textAreaRight" fmla="*/ 660600 w 990720"/>
              <a:gd name="textAreaTop" fmla="*/ 380880 h 1143000"/>
              <a:gd name="textAreaBottom" fmla="*/ 7621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 rot="10800000">
            <a:off x="2336760" y="5486040"/>
            <a:ext cx="4648320" cy="1143000"/>
          </a:xfrm>
          <a:custGeom>
            <a:avLst/>
            <a:gdLst>
              <a:gd name="textAreaLeft" fmla="*/ 609480 w 4648320"/>
              <a:gd name="textAreaRight" fmla="*/ 4038840 w 4648320"/>
              <a:gd name="textAreaTop" fmla="*/ 149760 h 1143000"/>
              <a:gd name="textAreaBottom" fmla="*/ 9932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5" y="21600"/>
                </a:lnTo>
                <a:lnTo>
                  <a:pt x="1953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3011400" y="551664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KOETJES EN KALF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 rot="2085600">
            <a:off x="5076000" y="5084280"/>
            <a:ext cx="541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FEITEN EN GEBEURTENI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 rot="8967600">
            <a:off x="2987280" y="3715920"/>
            <a:ext cx="2819520" cy="1143000"/>
          </a:xfrm>
          <a:custGeom>
            <a:avLst/>
            <a:gdLst>
              <a:gd name="textAreaLeft" fmla="*/ 461880 w 2819520"/>
              <a:gd name="textAreaRight" fmla="*/ 2357640 w 2819520"/>
              <a:gd name="textAreaTop" fmla="*/ 187200 h 1143000"/>
              <a:gd name="textAreaBottom" fmla="*/ 9558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78" y="21600"/>
                </a:lnTo>
                <a:lnTo>
                  <a:pt x="1812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 rot="19755000">
            <a:off x="3132360" y="314136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MENINGEN EN IDEE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 rot="6963600">
            <a:off x="1166040" y="4962240"/>
            <a:ext cx="1905120" cy="1143000"/>
          </a:xfrm>
          <a:custGeom>
            <a:avLst/>
            <a:gdLst>
              <a:gd name="textAreaLeft" fmla="*/ 390960 w 1905120"/>
              <a:gd name="textAreaRight" fmla="*/ 1514160 w 1905120"/>
              <a:gd name="textAreaTop" fmla="*/ 234360 h 1143000"/>
              <a:gd name="textAreaBottom" fmla="*/ 9086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63" y="21600"/>
                </a:lnTo>
                <a:lnTo>
                  <a:pt x="1633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 rot="17626200">
            <a:off x="212760" y="317916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EMOTIES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 rot="17216400">
            <a:off x="-1589400" y="3110760"/>
            <a:ext cx="642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ONTMOETING/INTIM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6634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Niveaus van communic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8:58:09Z</dcterms:created>
  <dc:creator>njansen</dc:creator>
  <dc:description/>
  <dc:language>en-US</dc:language>
  <cp:lastModifiedBy>Kees</cp:lastModifiedBy>
  <dcterms:modified xsi:type="dcterms:W3CDTF">2015-01-14T18:03:04Z</dcterms:modified>
  <cp:revision>45</cp:revision>
  <dc:subject/>
  <dc:title>Hart voor je huwelijk</dc:title>
</cp:coreProperties>
</file>